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0C6-F963-4AE0-9BD4-668081A4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D11-CD6C-40E8-BB31-FE140FD4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33C-AE21-4F0A-8966-FA215100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E16-0900-43E1-AE1D-22BBB069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AAB-A202-4EDF-880F-39257D2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389-76D7-4E58-84DF-B09BA232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692-23E1-4772-A2C0-FFE146CC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5CB-4ECC-4876-A63F-C733ACF2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802-54F9-474C-832E-92CAC83D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DB6-E076-4D9E-BF23-720BB52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15D-16A4-4AF3-AAE3-DF0EE18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F0B-FC34-4370-85A9-28F5D85A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0A78-4E5A-47B5-9FE0-F5E143410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7000" y="65160"/>
          <a:ext cx="9117000" cy="6824520"/>
        </p:xfrm>
        <a:graphic>
          <a:graphicData uri="http://schemas.openxmlformats.org/drawingml/2006/table">
            <a:tbl>
              <a:tblPr/>
              <a:tblGrid>
                <a:gridCol w="1219320"/>
                <a:gridCol w="1447560"/>
                <a:gridCol w="1770120"/>
                <a:gridCol w="1855800"/>
                <a:gridCol w="1595520"/>
                <a:gridCol w="1228680"/>
              </a:tblGrid>
              <a:tr h="1778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:  pic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50% of the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75% or more of the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make meaning completely unclear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significantly hinder meaning in some instance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that may impede comprehen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mistakes do not impede 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tion was lacking creativity or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howed thought, creativity, preparation (one was lack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d presentation shows thought and creativity and prepa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oken Flu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ce is so choppy that it impeded the ability to be understoo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metimes pace or intonation makes it hard to understand.  Only a sympathetic listener would underst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 and intonation is appropriate, showing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unc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metimes pronunciation makes it difficult to understand the 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nunciation is appropri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r clearly conveys the main idea, providing details and fulfilling all of the requireme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shows lack of mastery of basic Germ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novice level speaker.  Basic presentation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takes risks to manipulate the language and ideas flow from topic to 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 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ten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50% of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d 50% - 74% of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d 75 % of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s all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1"/>
          <p:cNvSpPr/>
          <p:nvPr/>
        </p:nvSpPr>
        <p:spPr>
          <a:xfrm>
            <a:off x="650232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_______/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518160" y="1828800"/>
            <a:ext cx="24386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rn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eber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 liebsten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t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ser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 besten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e findest du? &amp; Ich finde… ____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inions 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 and goodbye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35:31Z</dcterms:created>
  <dc:creator>Alissa Hart</dc:creator>
  <dc:description/>
  <dc:language>en-US</dc:language>
  <cp:lastModifiedBy>Alissa Hart</cp:lastModifiedBy>
  <dcterms:modified xsi:type="dcterms:W3CDTF">2015-02-23T01:45:26Z</dcterms:modified>
  <cp:revision>10</cp:revision>
  <dc:subject/>
  <dc:title>PowerPoint Presentation</dc:title>
</cp:coreProperties>
</file>